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EAD-87BD-4EBD-A0FB-61332BB5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915-9D8A-41E6-AD89-1023EEAF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7A8-767A-4691-B0D0-F8096603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B74-DFC8-4FB1-B522-9BAB65B7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D15-5A22-43B9-9D53-DF63A56E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516-8A7A-4509-8DB8-605E865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E6D-9826-46EA-A21E-D6F5E020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6E5-0D47-4B05-A194-D8ADD402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E43-7EF3-4755-B1F4-41CC813A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E52-1064-4680-BB48-F84A410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EDB-9108-4E97-8FBB-0067C5A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10A-421C-4DBD-9E25-E596781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63A-6E6A-41FD-97D2-FDA2E159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0A5D-0630-4DBC-B6D2-5CBF0CE9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E82qtKSSH4&amp;feature=endscree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3-04-03T09:12:58Z</dcterms:modified>
  <cp:revision>30</cp:revision>
  <dc:subject/>
  <dc:title>PowerPoint Presentation</dc:title>
</cp:coreProperties>
</file>